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F68-235E-4A15-9EA6-26F81BAA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CF9-D91D-4EF3-A8E5-3FACF4E4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DA2-FEDC-4BF7-B174-4536FA39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E03-3D3A-4B11-8680-EBE5E9C3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F8B-10C9-4EC5-8053-9A7D445F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83D-C560-45A5-9377-A8378110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06A-A406-43EC-8CD7-036F05DB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F4F-A896-4B63-A394-A25BBE3A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52F-2C08-4ED0-84E5-08ADF1A8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E66-4C72-483E-983B-60B86334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4CB-2BDD-4D34-A8AB-CC3DE5E8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029-4499-481D-A1B4-797DDAA1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706C-446D-411C-B391-FC3EB58BFC6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C902-9B34-4637-8F81-CC6C6A530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14.xml"/><Relationship Id="rId12" Type="http://schemas.openxmlformats.org/officeDocument/2006/relationships/slide" Target=""/><Relationship Id="rId13" Type="http://schemas.openxmlformats.org/officeDocument/2006/relationships/slide" Target="slide16.xml"/><Relationship Id="rId14" Type="http://schemas.openxmlformats.org/officeDocument/2006/relationships/slide" Target=""/><Relationship Id="rId15" Type="http://schemas.openxmlformats.org/officeDocument/2006/relationships/slide" Target="slide18.xml"/><Relationship Id="rId16" Type="http://schemas.openxmlformats.org/officeDocument/2006/relationships/slide" Target=""/><Relationship Id="rId17" Type="http://schemas.openxmlformats.org/officeDocument/2006/relationships/slide" Target="slide20.xml"/><Relationship Id="rId18" Type="http://schemas.openxmlformats.org/officeDocument/2006/relationships/slide" Target=""/><Relationship Id="rId19" Type="http://schemas.openxmlformats.org/officeDocument/2006/relationships/slide" Target="slide22.xml"/><Relationship Id="rId20" Type="http://schemas.openxmlformats.org/officeDocument/2006/relationships/slide" Target=""/><Relationship Id="rId21" Type="http://schemas.openxmlformats.org/officeDocument/2006/relationships/slide" Target="slide24.xml"/><Relationship Id="rId22" Type="http://schemas.openxmlformats.org/officeDocument/2006/relationships/slide" Target=""/><Relationship Id="rId23" Type="http://schemas.openxmlformats.org/officeDocument/2006/relationships/slide" Target="slide26.xml"/><Relationship Id="rId24" Type="http://schemas.openxmlformats.org/officeDocument/2006/relationships/slide" Target=""/><Relationship Id="rId25" Type="http://schemas.openxmlformats.org/officeDocument/2006/relationships/slide" Target="slide28.xml"/><Relationship Id="rId26" Type="http://schemas.openxmlformats.org/officeDocument/2006/relationships/slide" Target=""/><Relationship Id="rId27" Type="http://schemas.openxmlformats.org/officeDocument/2006/relationships/slide" Target="slide30.xml"/><Relationship Id="rId28" Type="http://schemas.openxmlformats.org/officeDocument/2006/relationships/slide" Target=""/><Relationship Id="rId29" Type="http://schemas.openxmlformats.org/officeDocument/2006/relationships/slide" Target="slide32.xml"/><Relationship Id="rId30" Type="http://schemas.openxmlformats.org/officeDocument/2006/relationships/slide" Target=""/><Relationship Id="rId31" Type="http://schemas.openxmlformats.org/officeDocument/2006/relationships/slide" Target="slide34.xml"/><Relationship Id="rId32" Type="http://schemas.openxmlformats.org/officeDocument/2006/relationships/slide" Target=""/><Relationship Id="rId33" Type="http://schemas.openxmlformats.org/officeDocument/2006/relationships/slide" Target="slide36.xml"/><Relationship Id="rId34" Type="http://schemas.openxmlformats.org/officeDocument/2006/relationships/slide" Target=""/><Relationship Id="rId35" Type="http://schemas.openxmlformats.org/officeDocument/2006/relationships/slide" Target="slide38.xml"/><Relationship Id="rId36" Type="http://schemas.openxmlformats.org/officeDocument/2006/relationships/slide" Target=""/><Relationship Id="rId37" Type="http://schemas.openxmlformats.org/officeDocument/2006/relationships/slide" Target="slide40.xml"/><Relationship Id="rId38" Type="http://schemas.openxmlformats.org/officeDocument/2006/relationships/slide" Target=""/><Relationship Id="rId39" Type="http://schemas.openxmlformats.org/officeDocument/2006/relationships/slide" Target="slide42.xml"/><Relationship Id="rId40" Type="http://schemas.openxmlformats.org/officeDocument/2006/relationships/slide" Target=""/><Relationship Id="rId41" Type="http://schemas.openxmlformats.org/officeDocument/2006/relationships/slide" Target="slide44.xml"/><Relationship Id="rId42" Type="http://schemas.openxmlformats.org/officeDocument/2006/relationships/slide" Target=""/><Relationship Id="rId43" Type="http://schemas.openxmlformats.org/officeDocument/2006/relationships/slide" Target="slide46.xml"/><Relationship Id="rId44" Type="http://schemas.openxmlformats.org/officeDocument/2006/relationships/slide" Target=""/><Relationship Id="rId45" Type="http://schemas.openxmlformats.org/officeDocument/2006/relationships/slide" Target="slide48.xml"/><Relationship Id="rId46" Type="http://schemas.openxmlformats.org/officeDocument/2006/relationships/slide" Target=""/><Relationship Id="rId47" Type="http://schemas.openxmlformats.org/officeDocument/2006/relationships/slide" Target="slide50.xml"/><Relationship Id="rId48" Type="http://schemas.openxmlformats.org/officeDocument/2006/relationships/slide" Target=""/><Relationship Id="rId4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assroomtco.cosn.org/gartner_intro.html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ncfs.org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sba.org/site/page_micro.asp?TrackID=&amp;CID=82&amp;DID=214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0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1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2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4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5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6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7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8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9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0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1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4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5" action="ppaction://hlinksldjump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6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7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8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9" action="ppaction://hlinksldjump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0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1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32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34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5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36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7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8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9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40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1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4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4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5" action="ppaction://hlinksldjump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46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7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48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grades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ss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amp;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pour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3008160"/>
            <a:ext cx="762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Cat and Girl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410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54800"/>
            <a:ext cx="8839080" cy="72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a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ome people’s view of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some view the role of technology in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great reason to chart the course of your district’s technology plan  by using the required 9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wo to 10 yea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1253520"/>
            <a:ext cx="624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estimated range of replacement schedules for various districts across the state as reported by MDE personne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714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http://classroomtco.cosn.org/gartner_intro.htm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841320"/>
            <a:ext cx="8229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URL for information related to the Total Cost of Ownership  and Case Studies to assist districts with costs and Needs Assessmen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198468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ww.schooltechleadership.org/ptla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1253520"/>
            <a:ext cx="624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CASTLE URL link that provides a Principals Technology Leadership Assess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3032280"/>
            <a:ext cx="6248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81916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dentified as a “last resort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522360"/>
            <a:ext cx="7848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 donated or outdated technology equipment as opposed to new resources by a review of Technology Plans and interviews from Technology Specialis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38080" y="1553400"/>
            <a:ext cx="7620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echnology Planning Guide for Minnesota School Districts, Charter Schools, Nonpublic Library, and Public Librar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278712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sk th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1909800"/>
            <a:ext cx="655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w do you determine the technology needs of staff and studen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010280" y="504036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924680" y="534528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272736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815400"/>
            <a:ext cx="6095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ensure that all Minnesota children in grades K-12 and children from historically under served populations have access to the computer technolog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-205560"/>
            <a:ext cx="624816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partial Mission Statement of the Minnesota Computers for Schools organizations as found a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http://www.mncfs.o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198648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r low down on education’s most important high tech meetings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23479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ww.eschoolnews.o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1162080"/>
            <a:ext cx="6248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Mary.Mehsikomer@state.m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1253520"/>
            <a:ext cx="624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o is the person I email at the Minnesota Department of Education with questions regarding Technology Pla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Educational Lead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1175760"/>
            <a:ext cx="624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driving force behind sound technology implementation and vision within a distric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-1072440"/>
            <a:ext cx="800100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the requirements for plans as found i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ducation.state.mn.us/mdeprod/groups/Library/documents/Report/003528.pd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234936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w  a leader determines technology nee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27162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Look, Listen, &amp; Lear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198468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formation to make us think and consider our technology go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705960"/>
            <a:ext cx="624816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Did Your K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as found on Scott McCloud’s website Dangerously Irreleva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idyouknow.w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271296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igital Immigrants versus Digital Na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528840"/>
            <a:ext cx="624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are students versus educators as describes in the article by Marc Prensk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ww.marcprensky.com/writing/default.as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271764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igital  or Technological Div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0" y="561960"/>
            <a:ext cx="4419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gap between the have and have not's in Technology accessibility, education, and materials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270828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ometime I wonder “What Works?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850680"/>
            <a:ext cx="88390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ttp://ies.ed.gov/ncee/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096560"/>
            <a:ext cx="7391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 – Rate Communication Discou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CLB Title II Part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crosoft Cy Pres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brary Services &amp; Technology 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e Funded Regional Library Telecommunications A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remarkable mem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198936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how old were you  and where were you when you first used a compu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888840"/>
            <a:ext cx="6248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bbreviation of a form of communication or an organization servicing school media and information technology profession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1620000"/>
            <a:ext cx="624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ME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ww.memoweb.o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532080"/>
            <a:ext cx="624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cient Philosop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r South Central Regional Area Communications Syst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1575000"/>
            <a:ext cx="624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SOCRAT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ttp://www.projectsocrates.o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234936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area around me I cherish or how I know about oth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307296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My Spa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198324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 intricate network suggesting something that was formed by weav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235260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web of a spider or the World Wide Web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-26640"/>
            <a:ext cx="86104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the possible sources of available discounts or funding after a district completes a 4 year Technology Plan and submits it to the Minnesota Department of Educ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271296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passageway or the founder of Microso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271764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/Who is (Bill) </a:t>
            </a: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Gate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38080" y="-259200"/>
            <a:ext cx="7696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anning &amp; Needs Assess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ision, Goals, Objectives, &amp; Strateg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licies &amp; Proced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chnology Infrastructure, Management, &amp;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le of the Media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ff Development &amp; T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dget for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lementation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luation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9177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the nine required criteria in a Technology Plan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22696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http://www.nsba.org/site/page_micro.asp?TrackID=&amp;CID=82&amp;DID=2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265320"/>
            <a:ext cx="6248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URL for the website of the National School Board Association to assist with Technology Planning Guidance &amp; other resources for administrators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033720"/>
            <a:ext cx="662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MHunt</cp:lastModifiedBy>
  <dcterms:modified xsi:type="dcterms:W3CDTF">2007-05-01T02:11:45Z</dcterms:modified>
  <cp:revision>177</cp:revision>
  <dc:subject/>
  <dc:title>Blank Jeopardy</dc:title>
</cp:coreProperties>
</file>